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C5EFE-0D64-4C6F-9423-81BD95972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85945-86F8-420A-AE91-C565285384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FA94C-D431-4E66-9B4F-67ECCDA32F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67D33-FC8D-48FF-8EE6-A506737429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B5FE64-3CF8-4CB9-ADFC-23EBE0EB51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90479-47F1-479A-9966-815DB45131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1F5469-2956-44BE-8499-40237A2FDD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51883-8634-4A0A-B762-DD8BA46FD6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6B300-BE36-41D6-AAE0-8F0D094BD4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DA9391-744B-4110-94A7-5389C8DA2E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9a12a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9a12a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C9A5F-895C-46C6-8413-E422CCDEB6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5D245-E170-466B-AA4F-AD20815B9B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3422B-6373-4E7E-A4BF-727D6D9B21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1D694-B18C-4403-B858-0494ABA91C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90B3C-EC53-4BB2-BE8E-FD1C4F64FE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FD4BF-9EC3-4607-81F7-E30E88D0C1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26446-6D16-462A-861C-0DD7AF145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C5C1C-555C-4784-89E5-328104AE3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9B8780-DDAA-4A37-B35B-3D98AA8973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CEDF2-45CD-442B-8B2F-6B7EB2149E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510C0-309C-4D4A-AE18-E5AFA0C6CF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2C6A5-C311-4A28-9CDE-1FCEE3DB01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800" spc="-1" strike="noStrike">
              <a:solidFill>
                <a:srgbClr val="f9a12a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52864-065F-43C3-ADE2-BC5253BD88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24537-3146-4EED-90CE-3E81647B70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3E314-E5F1-45A2-9C78-6E7E08C59F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B1CA2B-5D55-4FF1-AA6F-53676FEDE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620-06A1-454A-AA46-9AFE35BF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C33-71CA-4561-AE89-02DAB8F3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712-0934-40DD-90BF-0040A872A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125-9B5D-4A4E-9270-054387F0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A4F-D449-4CD8-A327-B223CA34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155-B7DE-4FB0-9523-3CAD571C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EE7-237D-4612-8D3F-4A960192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24D2-9B9B-4FA1-9B4F-71A89498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42B-4667-4C9B-9032-9EDF1196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480-0882-44C6-8364-E7B411B0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62D-AD49-4C99-B6E6-45DC99B5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7FD-5EEB-4968-98D9-4148845A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1A7B8-ECF4-42D3-B43A-E4258CE622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ORALNO HIRUR</a:t>
            </a: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Š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K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INTERVE</a:t>
            </a:r>
            <a:r>
              <a:rPr b="1" lang="sr-Latn-RS" sz="4800" spc="-1" strike="noStrike">
                <a:solidFill>
                  <a:srgbClr val="ffffff"/>
                </a:solidFill>
                <a:latin typeface="Trebuchet MS"/>
              </a:rPr>
              <a:t>NCIJE U DEC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12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FLEGMON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853920" y="1820880"/>
            <a:ext cx="51436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Ludvigova angina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Postoji i karakterističan nalaz plica sublingualis, koje su prekrivene naslagama fibrina i imaju izgled tzv. ’’petlove kreste''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ARUL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1006560" y="2189160"/>
            <a:ext cx="521964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Parulis je naziv za hronični subgingivalni apsces, karakterističan za dečiji uzrast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Fistulozni kanal povezuje gnoj sa periapikalnim procesom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FOLIKULARNE CIST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1235160" y="1967040"/>
            <a:ext cx="601956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Folikularne ciste su cistične degeneracije zubnog folikula na neizniklom zubu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Epitel ciste potiče od gleđnog epitela zubnog zametka, a opna od vezivnog tkiva zubnog folikula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Najčešće su prisutne na umnjacima, ili prekobrojnim zubima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RADIKULARNE CIST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197000" y="1820880"/>
            <a:ext cx="57531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Radikularne ciste su ciste koje se nalaze na korenovima mlečnih i stalnih zuba. Iako su češće na stalnim zubima (svega 3,3% ih se vezuje za mlečne zube)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Posledica su infekcije koja može da se širi iz pulpe ili periapikalnog tkiva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MUKOKEL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701640" y="2043000"/>
            <a:ext cx="5067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Mukokele predstavljaju mukozne retencione ciste koje su ujedno i najčešće neodontogene ciste kod dece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RANUL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53920" y="1820880"/>
            <a:ext cx="47628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Može biti posttraumatska, ali može nastati i kao rezultat dilatacije izvodnog kanala sublingvalne žlezde, često kod novorođenčeta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Može se širiti iz jednog prostora u drugi, te dobiti izgled tzv. ''plivajuće ranule''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FIBROZA GINGIV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197000" y="1820880"/>
            <a:ext cx="42289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Fibroza gingive je jedna od najčešćih mukogingivalnih anomalija, koja kao posledicu ima retenciju zuba, jače ili slabije izraženu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FRENULUM LABII INFERIORIS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701640" y="1820880"/>
            <a:ext cx="42670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Visoka insercija frenuluma donje usne na interdentalnoj papili može uzrokovati povlačenje marginalne gingive i oštećenje parodoncijuma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FRENULUM LINGUE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158840" y="1738440"/>
            <a:ext cx="1059192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Kod novorođenčadi, frenulum je inače pripojen na vrhu alveolarnog grebena, međutim u toku rasta i razvoja orofacijalnih struktura, on se pomera ka farinksu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HEMANGIOM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777960" y="1509840"/>
            <a:ext cx="476244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Hemangiom je čvrst tumor mekog tkiva kod dece. Najčešće je prisutan pri rođenju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Kapilarni nastaje proliferacijom malih kapilara, često se nalazi na koži ili oralnim sluznicama u vidu crvenih polja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Kavernozni je sastavljen od većih kavernoznih sudova, uzrokuje kompresiju i otok tkiva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51272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KARAKTERISTIKE KOD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44440" y="1890720"/>
            <a:ext cx="73152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Brža infiltracija, apsorpcija i delovanje anestetika, i potrebna je manja količina anestetik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Vilice su manje, ramusi uži, a foramen mandibule je pomeren distalnij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Ekstrakcije zuba su manje zahtevne u odnosu na ekstrakcije zuba odrasli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Iako građa kosti kao takva ima svoje prednosti, negativna strana je ta što je </a:t>
            </a:r>
            <a:r>
              <a:rPr b="1" lang="sr-Latn-CS" sz="2400" spc="-1" strike="noStrike">
                <a:solidFill>
                  <a:srgbClr val="f45e44"/>
                </a:solidFill>
                <a:latin typeface="Trebuchet MS"/>
              </a:rPr>
              <a:t>širenje infekcije dosta brže kod de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EPULI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853920" y="1890720"/>
            <a:ext cx="49150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Epulis je hipertrofična tvorevina slična tumoru, nalazi se na gingivalnoj mukozi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Kao uzrok nastanka navodi se trauma ili iritacija gingive često povezana sa eksfolijacijom, erupcijom ili infekcijom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TUMOR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853920" y="1585800"/>
            <a:ext cx="621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Odontom je nepravilna kalcificirana masa u kojoj se mogu naći delovi zuba (gleđ, dentin, cement) i vezivnog tkiva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Sarkom je maligni tumor poreklom vezivnog tkiva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periostalni (poreklom od periosta) 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centralni (poreklom od vezivnog tkiva u kosti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EKOBROJNI ZUB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777960" y="1585800"/>
            <a:ext cx="5562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Na postojanje prekobrojnog zuba treba posumnjati ako trajni zub ne iznikne na vreme, ili ako mlečni zubi perzistiraju, ako postoje malpozicije </a:t>
            </a:r>
            <a:r>
              <a:rPr b="1" lang="sr-Latn-RS" sz="2500" spc="-1" strike="noStrike">
                <a:solidFill>
                  <a:srgbClr val="f9a12a"/>
                </a:solidFill>
                <a:latin typeface="Trebuchet MS"/>
              </a:rPr>
              <a:t>stalnih </a:t>
            </a: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zuba ili veće dijasteme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Tretman prekobrojnog zuba je hirurški, jer mogu ugroziti poredak stalnih zuba u zubnom nizu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IMPAKTIRANI ZUB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1158840" y="1890720"/>
            <a:ext cx="1028880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Impakcija označava pojavu zaostajanja zuba u kosti. Može biti uzrokovana uklještenjem okolnim koštanim strukturama ili zbog položaja susednih zuba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Impaktirani gornji očnjaci se najčešće javljaju kao posledica preranog gubitka (ekstrakcije) mlečnih očnjaka, te tako prvi premolari zauzmu njihovo mesto u zubnom nizu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BIOPS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197000" y="1820880"/>
            <a:ext cx="55245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Kod dece, obzirom na veliku mogućnost oštećenja susednih struktura, obično se biopsija radi pod opštom anestezijom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OSTTRAUMATSKA HIRURG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1197000" y="1820880"/>
            <a:ext cx="60577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Grupa koja je najpodložnija ovakvim povredama jesu deca do tri godine, a povrede najčešće nastaju kao posledica pada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82520" y="474840"/>
            <a:ext cx="10868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ORALNO HIRURŠKI TRETMANI KOD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853920" y="1967040"/>
            <a:ext cx="7506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Ekstrakcija zuba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Hirurški tretman odontogenih infekcija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Hirurški tretman cističnih tvorevina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Hirurški tretman mukogingivalnih anomalija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Ekstrakcija prekobrojnih i impaktiranih zuba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Hirurški tretman tumora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Biopsija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Posttraumatska hirurgij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NEOPHODNA POSEBNA PRIPREM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816440" y="1890720"/>
            <a:ext cx="74674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Krvne diskrazij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Oboljenja srca i krvnih sudov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Akutna bubrežna oboljenj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LOKALNE KONTRAINDIKACIJ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4776840" y="1967040"/>
            <a:ext cx="6973920" cy="49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lvl="1" marL="887400" indent="-34272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Akutna upalna stanja gingive, sluznice usta i farink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87400" indent="-34272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Benigni i maligni tumori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87400" indent="-34272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Tkivo koje je prošlo terapiju jonizujućim zračenjem, i koje je, zbog slabe prokrvljenosti, podložno pojavi osteomijeliti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87400" indent="-342720">
              <a:lnSpc>
                <a:spcPct val="10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Infektivna oboljenja koja se manifestuju i na oralnim sluznicam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PRIPREMA ZA EKSTRAKCIJU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4892760" y="2043000"/>
            <a:ext cx="7010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624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600" spc="-1" strike="noStrike">
                <a:solidFill>
                  <a:srgbClr val="f9a12a"/>
                </a:solidFill>
                <a:latin typeface="Trebuchet MS"/>
              </a:rPr>
              <a:t>Preoperativna priprema podrazumeva detaljno uzimanje anamnestičkih podataka, sa posebnim osvrtom na medicinsku historiju bolest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ODONTOGENE INFEKCIJE U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853920" y="2166840"/>
            <a:ext cx="8534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Širenje infekcije rapidnije zbog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3672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veća spongioznost kos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3672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više vezivnog i masnog tki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3672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širi apikalni otvor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93672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razgranata mreža krvnih i limfnih sudo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APSCES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006560" y="900000"/>
            <a:ext cx="52959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U hirurške mjere ubraja se: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ekstrakcija zuba uzročnik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Incizij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−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rebuchet MS"/>
              </a:rPr>
              <a:t>drenaža apscesa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2864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fffff"/>
                </a:solidFill>
                <a:latin typeface="Trebuchet MS"/>
              </a:rPr>
              <a:t>FLEGMON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197000" y="1662120"/>
            <a:ext cx="621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562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500" spc="-1" strike="noStrike">
                <a:solidFill>
                  <a:srgbClr val="f9a12a"/>
                </a:solidFill>
                <a:latin typeface="Trebuchet MS"/>
              </a:rPr>
              <a:t>Rapidno infekcija može preći i u duboke prostore glave i vrata (para- i retrofaringealni prostor, pterigomandibularni prostor).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comb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7:01:05Z</dcterms:modified>
  <cp:revision>1297</cp:revision>
  <dc:subject/>
  <dc:title>RTG U DEČJOJ STOMATOLOGIJI</dc:title>
</cp:coreProperties>
</file>